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17A9-B3CD-4E27-9E0F-F0D68868F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9417-4C49-4502-8A53-0DA9F78C4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2D9-F62B-4F29-8A8F-47BFA4A1A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E8F1-4E5E-447B-B798-CF09F786C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ADF6-2C54-4BB1-8736-9EFD26CD0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B556-8CE5-4296-BBC0-78B597F6E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DE1-937C-45FE-8581-DDC20C58B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4BB2-F5E7-4EF4-87DB-EBA90FCED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B4E9-3477-4FAE-B80B-274F1A2B8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9C5B-0B04-45BA-8947-2594CDC9B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E00D-8685-463C-AEBD-F283A3112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F4DA-6A48-4F97-B84E-21D0C252F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2E3-7D12-4A51-A671-33FE8CD5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FA4-1373-425D-B81A-3C2ED668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C40-235C-486E-B7AA-5D9F4BD2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8DD-2981-4ECF-BA36-3C361C15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4B8-0B6D-43F8-967C-B0259D4A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B06-F3D1-481D-BAC3-3DAD6525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84D-055E-4724-BDE2-4CA4C26F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A22-179F-47C3-929E-0249C766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91F-1E24-4050-BDA4-DBDDBEB9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07C-0F12-401D-9175-FDB1F42F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8D8-86C9-484A-BEAE-180B92CF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874-B85C-41D8-B73B-D68FB38F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5f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F6A3-BADF-4FC6-A6C9-75065578B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erfect Te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pañol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pítulo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orm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er + past parti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ado, ~ 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ame irregulars as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perf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ra practicar. .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d g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 habíamos 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d l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os habían viv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had stud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a había estudi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ad writ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ú habías escr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Jeff\Local Settings\Temporary Internet Files\Content.IE5\UKKGQAN9\MCj04323710000[1].wmf"/>
          <p:cNvPicPr/>
          <p:nvPr/>
        </p:nvPicPr>
        <p:blipFill>
          <a:blip r:embed="rId1"/>
          <a:stretch/>
        </p:blipFill>
        <p:spPr>
          <a:xfrm>
            <a:off x="6858000" y="4648320"/>
            <a:ext cx="18064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fect Te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many perfect ten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sent Per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l pretérito perfec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ast Per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l pretérito pluscuamperfec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sent Perfect Subjun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Future Per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Conditional Per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térito perfect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known as the PRESENT PREFECT T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refer to the past or to talk about something specific that HAS HAPPENED recen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ve you done (recently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 tense (2 pa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Jeff\Local Settings\Temporary Internet Files\Content.IE5\0EXN8001\MPj04387050000[1].jpg"/>
          <p:cNvPicPr/>
          <p:nvPr/>
        </p:nvPicPr>
        <p:blipFill>
          <a:blip r:embed="rId1"/>
          <a:stretch/>
        </p:blipFill>
        <p:spPr>
          <a:xfrm>
            <a:off x="6553080" y="4267080"/>
            <a:ext cx="20242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you form this ten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helping verb + the PAST participle of a 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é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Jeff\Local Settings\Temporary Internet Files\Content.IE5\0EXN8001\MCj04244660000[1].wmf"/>
          <p:cNvPicPr/>
          <p:nvPr/>
        </p:nvPicPr>
        <p:blipFill>
          <a:blip r:embed="rId1"/>
          <a:stretch/>
        </p:blipFill>
        <p:spPr>
          <a:xfrm>
            <a:off x="6400800" y="4495680"/>
            <a:ext cx="197496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a particip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articiple of a verb is often equal to the English ending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–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an be used as an ADJECTIVE or in a COMPOUND VERB formation with the verbs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est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n this case you MUST make it agree (m, f, s, 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ee pg. 29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the following endin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 verbs --- 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R &amp; ER verbs --- 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 participle 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3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irregulares en el parti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7325640" y="65530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gs 288 en ch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mos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st Perfect Ten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imular to the Present Perfect T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Compound tense (2 pa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escribes an event that HAD HAPPENED prior to another past e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Documents and Settings\Jeff\Local Settings\Temporary Internet Files\Content.IE5\5S0S1KB2\MCj04298270000[1].wmf"/>
          <p:cNvPicPr/>
          <p:nvPr/>
        </p:nvPicPr>
        <p:blipFill>
          <a:blip r:embed="rId1"/>
          <a:stretch/>
        </p:blipFill>
        <p:spPr>
          <a:xfrm>
            <a:off x="4724280" y="44956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6408000" y="472428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ño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o es más faci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7314120" y="556272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ú eres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ligent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0:00:18Z</dcterms:created>
  <dc:creator>Home User</dc:creator>
  <dc:description/>
  <dc:language>en-US</dc:language>
  <cp:lastModifiedBy>Maple Lake</cp:lastModifiedBy>
  <dcterms:modified xsi:type="dcterms:W3CDTF">2009-03-13T14:14:27Z</dcterms:modified>
  <cp:revision>5</cp:revision>
  <dc:subject/>
  <dc:title>The Perfect Tenses</dc:title>
</cp:coreProperties>
</file>